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1F3-DA0A-4C7C-ACAD-41B4B87F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EB2-C89B-4D0D-BF99-4898948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AC8-DBAC-4483-9B51-16A2FCE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674-DD0F-417F-8029-38160585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168-D720-40DF-AEDB-5A272D3E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199-68A7-4590-B1D9-930406A9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E1C-50BE-4AAB-B31F-67DD16A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C2F-C95D-4957-8EFC-BAF745B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BDE-D9A4-4771-8DA2-6AB2393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CA4-579A-49CA-8FFB-3A68F4E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F55-FC0C-4DC6-AE1D-BE0CF70E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668-71D2-4B37-8A70-062728D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2EC-936C-4293-A922-04D34E71602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5 Pomôž mi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mi, Pane, krotký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iem sa stíšiť, pokor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útaj moje pyšné 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ou vyzbroj do b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nad hriechom zvíťaz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, Pane, tichý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sa vôli podriad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 úzkosť, skúšok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vráť mi mier 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i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Ranenú dušu upokoj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obnov v nej sám ten obraz svoj.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y moc máš, Kráľ si, Boh a Pán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život svoj z lásky rád ti dám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aveky chcem byť už len tvoj.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14:59Z</dcterms:modified>
  <cp:revision>20</cp:revision>
  <dc:subject/>
  <dc:title>Je veľký náš Pán, on slávy je Kráľ Nech do všetkých strán  spev vrúcnych znie chvál.</dc:title>
</cp:coreProperties>
</file>